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4A1F-6154-4DF2-87BA-32219FE0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E38A-4F98-4924-B324-DC5B2E31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ACD5-EC1E-4952-A3EE-9032D4C5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2FCA-540F-4F23-99DC-7D36CF16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8ADC-2B61-4B1E-B09C-9E5355F7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6F89-27B4-49B8-B297-790D5FC7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F666-BE60-49A2-A846-6D0BFEAD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0DB4-AE4A-4AF0-BE5B-27B5F7E8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74CC-31AA-4CD0-961D-C5FA1105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97A0-7D96-49B4-84C9-58AACA16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59E5-595F-4C3F-BF9F-F3551840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468C-3174-4F80-ABDB-6D48935E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0AF1-A244-40E6-B807-6DB0CD457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8-2 Nature of Liqu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4479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uses liquids (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gases t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o conform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o the shape of their container?  Their ability to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209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key differenc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ough between Liquids and Ga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26668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attraction betwee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articles of a gas BUT there is attraction between the particles in a liquid, which keep the particles close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39625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 physical propertie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f a liquid are determined by the interaction of the colliding motions of the particles and the attractions among the parti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liquids are also denser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an gases because the forces reduce the amount of space between the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5238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from a liquid to a gas 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p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98108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this conversio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akes place minus the boiling, we call it evapor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y Evap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34290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because the molecule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in the liquid to not have enough kinetic energy to break the tractor beam and esca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42670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o the molecules at th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urface have enough KE to pull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por Pressu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1066680"/>
            <a:ext cx="754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a semi filled container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f liquid is sealed, some of the particles at the surface actually vapor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 particles that vaporized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ollide with the walls of the container, making vapor pres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3962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In a system at constan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apor pressure, an equillibrium exists between the vapor and the liqui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48006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rate of condensatio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ame as rate of eva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2971800"/>
            <a:ext cx="65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quid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–evaporates </a:t>
            </a:r>
            <a:r>
              <a:rPr b="0" lang="en-US" sz="2400" spc="-1" strike="noStrike">
                <a:solidFill>
                  <a:srgbClr val="9966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 vap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quid </a:t>
            </a:r>
            <a:r>
              <a:rPr b="0" lang="en-US" sz="2400" spc="-1" strike="noStrike">
                <a:solidFill>
                  <a:srgbClr val="9966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 condensates—vap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por pressure and the affects of temp.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137160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s temp increases,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o does vapor pres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 Becaus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 particles have increased 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243828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vapor pressure of a liquid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easured with a manometer (pg. 39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2767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iling Po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37339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a liquid is heated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o a temp at which the particles throughout have enough KE to vaporize, the liquid bo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45720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echnical definition of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boiling point (bp)is when the vapor pressure of the liquid is just equal to the external pressure on the liq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boiling point and pressure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2193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bp is whe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xternal and vapor pressure are equal, liquids do not always boil at the same temp.  Altitudes affect because of more or less pres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45720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 temp of boiling liquid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does not raise above the bp.  It just boils faster.  The bubbles in the liquid are va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5146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tmos. Pressure i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lower at higher altitudes, bp decr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pposite tru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for lower altitu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358128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external pressure,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 bp decre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external pressure,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 bp incre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BP – boiling point of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 liquid at a pressure of 101.3 k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16765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normal bp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– 100 deg.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44:06Z</dcterms:created>
  <dc:creator>jpak</dc:creator>
  <dc:description/>
  <dc:language>en-US</dc:language>
  <cp:lastModifiedBy>Farwell Area Schools</cp:lastModifiedBy>
  <dcterms:modified xsi:type="dcterms:W3CDTF">2009-03-26T17:50:23Z</dcterms:modified>
  <cp:revision>10</cp:revision>
  <dc:subject/>
  <dc:title>Note Guide 8-2 Nature of Liquids</dc:title>
</cp:coreProperties>
</file>